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E08-CB10-4E8A-A3C1-13236370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876-B623-4906-BDD7-91EE0568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D12-83A6-4339-B433-9ACEF39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46A-6E26-4C99-864B-8846E6DB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A32B-6809-4EE7-9EB8-970EC6DA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6FD-5E12-4D9B-A8BC-CA22C25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D024-30E2-41BA-ADC7-8010CB36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9D9-D805-4352-B3B0-199CF1D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4F5C-821F-4204-BECA-9DB7FC2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02B7-EEFE-4EBE-B452-2336AD9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254-1520-4FA9-B0AF-713805B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D46-A80A-44D8-855B-5AA38CB4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C85-912A-44B4-9EE9-AF1EBFD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2FDC-7B46-4A21-A468-4D298E8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024-3992-4CF8-95AC-C134593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574-B0B9-410D-B943-6F53E2A5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09F-C017-425D-99EA-83F52A71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1E56-C13C-49A3-8515-63FBE0F7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ADCF-ECC3-4FFD-BD86-9BFF053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80A7-A156-4884-A87B-2E7F44BB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8D30-88C3-400E-B476-13A53D23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9E3B-2BEF-4995-9445-B9331964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10B-3BF3-4675-A05D-35D6A244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8A7D-4073-4CC7-9A10-EF859EB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1F4E-8692-4A91-AD6D-6655388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CAB3-2C46-49E9-BAE4-67134FA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15F9-2F51-402C-9DAF-4B51722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4FB3-4EDA-4F69-A09C-AC17F50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17CA-2680-4FDE-8EB8-F1793F15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4B23-7E50-4375-AAA5-89F941DD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4D8B-A7D8-4EEC-9A71-64621FBE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5D47-9713-434A-AC5D-55ACE61C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1081-BFD0-40FB-96D8-718242B9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08D-4953-4B04-9FFD-519F424E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B3D5-03A2-40E7-8D7F-BADA7B1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3A55-DB96-4D24-9B10-31922CB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6330-9A1E-475D-9B60-29CAC4D8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3409F-04A1-4B0E-A4DF-4C96685D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0292-A8A4-45B3-ACAC-7C6809D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6333-57E8-407C-969A-6B4D880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CFFE-40A6-47CD-B018-2E04259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F211-03E0-4801-A722-0C3016E9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0D5C-31D4-4E7E-979E-FA2FF296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F7D-74A0-4024-AACA-8D72779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A5F-60AC-4758-A9DC-62B58DEA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028-8D04-4058-A1EF-72EDF69B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BCC-EAF9-4526-B5F7-1C06AD1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8FA-ACEC-4103-A277-80D8281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739A-40E2-4415-9F5C-8DEF5FB579C0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558C-B184-444C-A78D-61B121F3AF9E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50A3-B674-40EC-9A30-6C271BD24E38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7D4-9BE2-4C6C-B4D5-AE84F81BCAD8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Referente clásico de India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Jones y la última cruz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928800" y="5572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Zara Queralt Martíne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928800" y="71424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LAS FAS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1.El encargo prev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1                                                         1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1.1 : el rey de Eetes , Pelias , le hizo el encargo previo a Jasón, el vellocino de oro, para así coronarlo nuevo rey. Tal como el oráculo le decía al rey , un hombre con una  sola sandalia le arrebataría su reino. El la imagen 1.2 tenemos el encargo previo ,el santo grial, que su padre le pi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4 Imagen" descr="07000[1].jpg"/>
          <p:cNvPicPr/>
          <p:nvPr/>
        </p:nvPicPr>
        <p:blipFill>
          <a:blip r:embed="rId1"/>
          <a:stretch/>
        </p:blipFill>
        <p:spPr>
          <a:xfrm>
            <a:off x="1214280" y="2143080"/>
            <a:ext cx="1714680" cy="23925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encargo previo de indy.jpg"/>
          <p:cNvPicPr/>
          <p:nvPr/>
        </p:nvPicPr>
        <p:blipFill>
          <a:blip r:embed="rId2"/>
          <a:stretch/>
        </p:blipFill>
        <p:spPr>
          <a:xfrm>
            <a:off x="4572000" y="2143080"/>
            <a:ext cx="400068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CuadroTexto"/>
          <p:cNvSpPr/>
          <p:nvPr/>
        </p:nvSpPr>
        <p:spPr>
          <a:xfrm>
            <a:off x="714240" y="1071720"/>
            <a:ext cx="821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2.El viaje largo y accident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1                                                                  2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2.1:  Jasón y los argonautas  cruzando las rocas cianeas en su largo viaje accidentado así llamado por  sus numerosos  imprevistos durante este . En la imagen 2.2 :esta imagen representa a las rocas cianeas que tiene que pasa por el med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4 Imagen" descr="Image24[1].jpg"/>
          <p:cNvPicPr/>
          <p:nvPr/>
        </p:nvPicPr>
        <p:blipFill>
          <a:blip r:embed="rId1"/>
          <a:stretch/>
        </p:blipFill>
        <p:spPr>
          <a:xfrm>
            <a:off x="785880" y="1928880"/>
            <a:ext cx="318132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6 Imagen" descr="rocas cianeas en indiana jones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71920" cy="22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714240" y="114300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3.Llegada al lug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                                                             3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:llegada al lugar  y enfrentamiento por conseguir  el vellocino de oro . En la imagen 3.2  observamos que Indiana , tras la llegada al lugar destinado , tiene que enfrentarse con la competencia ,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4 Imagen" descr="mitojason1[1].jpg"/>
          <p:cNvPicPr/>
          <p:nvPr/>
        </p:nvPicPr>
        <p:blipFill>
          <a:blip r:embed="rId1"/>
          <a:stretch/>
        </p:blipFill>
        <p:spPr>
          <a:xfrm>
            <a:off x="857160" y="2143080"/>
            <a:ext cx="268308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viaje accidentado de indy.jpg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CuadroTexto"/>
          <p:cNvSpPr/>
          <p:nvPr/>
        </p:nvSpPr>
        <p:spPr>
          <a:xfrm>
            <a:off x="57168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4.La ayuda inesperada y amoro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4.1                                                                   4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4.1:  Aparece Medea , hija del rey, para ayudar a Jasón a pasar las pruebas para conseguir el vellocino de oro . En la 4.2 Indiana recibe la ayuda inesperada de  Elsa , la joven alemana que había ido contra él al principio de la búsqueda. Ayuda a elegir mal la copa a uno de los suyos par así darsela a Ind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5 Imagen" descr="jasonmedea[1].jpg"/>
          <p:cNvPicPr/>
          <p:nvPr/>
        </p:nvPicPr>
        <p:blipFill>
          <a:blip r:embed="rId1"/>
          <a:stretch/>
        </p:blipFill>
        <p:spPr>
          <a:xfrm>
            <a:off x="714240" y="207180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6 Imagen" descr="fsdadgag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43200" cy="27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CuadroTexto"/>
          <p:cNvSpPr/>
          <p:nvPr/>
        </p:nvSpPr>
        <p:spPr>
          <a:xfrm>
            <a:off x="571680" y="135720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5.Huída accidenta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.1                                                            5.2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Podemos observar   en la imagen 5.1 a los argonautas huyendo por el Danubio perseguidos por los  colcos  y luego los argonautas consiguieron la victor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la imagen 5.2 aparece la huida de India Jones  escapando de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5 Imagen" descr="argonautas1[1].jpg"/>
          <p:cNvPicPr/>
          <p:nvPr/>
        </p:nvPicPr>
        <p:blipFill>
          <a:blip r:embed="rId1"/>
          <a:stretch/>
        </p:blipFill>
        <p:spPr>
          <a:xfrm>
            <a:off x="785880" y="228600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212" name="3 Imagen" descr="persecucion.jpg"/>
          <p:cNvPicPr/>
          <p:nvPr/>
        </p:nvPicPr>
        <p:blipFill>
          <a:blip r:embed="rId2"/>
          <a:stretch/>
        </p:blipFill>
        <p:spPr>
          <a:xfrm>
            <a:off x="4286160" y="2286000"/>
            <a:ext cx="4143600" cy="23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3 CuadroTexto"/>
          <p:cNvSpPr/>
          <p:nvPr/>
        </p:nvSpPr>
        <p:spPr>
          <a:xfrm>
            <a:off x="571680" y="1285920"/>
            <a:ext cx="8143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6.Retorno victor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6.1                                                                     6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6.1: Jasón , tras pasar las pruebas que el rey le había impuesto , a logrado conseguir el vellocino de oro. En la siguiente imagen aparece Indiana Jones con el cáliz ,mediante la ayuda de su libro a logrado conseguirl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4 Imagen" descr="argonautas%20Jason%20De%20Erasmo%20Quellinus[1].jpg"/>
          <p:cNvPicPr/>
          <p:nvPr/>
        </p:nvPicPr>
        <p:blipFill>
          <a:blip r:embed="rId1"/>
          <a:stretch/>
        </p:blipFill>
        <p:spPr>
          <a:xfrm>
            <a:off x="714240" y="22147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5 Imagen" descr="indiana con el cáliz.jpg"/>
          <p:cNvPicPr/>
          <p:nvPr/>
        </p:nvPicPr>
        <p:blipFill>
          <a:blip r:embed="rId2"/>
          <a:stretch/>
        </p:blipFill>
        <p:spPr>
          <a:xfrm>
            <a:off x="5000760" y="221472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07:22Z</dcterms:created>
  <dc:creator>LG</dc:creator>
  <dc:description/>
  <dc:language>en-US</dc:language>
  <cp:lastModifiedBy>LG</cp:lastModifiedBy>
  <dcterms:modified xsi:type="dcterms:W3CDTF">2010-01-31T19:36:57Z</dcterms:modified>
  <cp:revision>29</cp:revision>
  <dc:subject/>
  <dc:title>JASÓN Y LOS ARGONAUTAS</dc:title>
</cp:coreProperties>
</file>